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oeo.wav" ContentType="audio/x-wav"/>
  <Override PartName="/ppt/media/image1.gif" ContentType="image/gif"/>
  <Override PartName="/ppt/media/explode.wav" ContentType="audio/x-wav"/>
  <Override PartName="/ppt/media/camera.wav" ContentType="audio/x-wav"/>
  <Override PartName="/ppt/media/image7.jpeg" ContentType="image/jpeg"/>
  <Override PartName="/ppt/media/image2.png" ContentType="image/png"/>
  <Override PartName="/ppt/media/image3.jpeg" ContentType="image/jpeg"/>
  <Override PartName="/ppt/media/deathstardoor.wav" ContentType="audio/x-wav"/>
  <Override PartName="/ppt/media/image4.gif" ContentType="image/gif"/>
  <Override PartName="/ppt/media/chimes.wav" ContentType="audio/x-wav"/>
  <Override PartName="/ppt/media/beamup2.wav" ContentType="audio/x-wav"/>
  <Override PartName="/ppt/media/image8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6F2-748E-4B21-B2DF-7BB3A2B3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057-BA6A-4D4F-A3DA-886CB6C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09B-A886-432B-BB9A-AA7C4566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AFE-7EC0-4451-ADE8-138D2757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F8BC-09E3-4DEC-B50F-03B86C10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443-2F52-430C-89A9-A4D0DD17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E7A4-A7F4-4CC1-9C0E-6323616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200-0EBA-4A3F-98A4-B93A29B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4F27-433C-4F61-B02C-030ADB3D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677-CD74-43E6-8110-7532DAB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A70F-F894-47B9-BD7D-E4A6BD0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46C-1DCA-4355-973A-AF02903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0F1F-2E54-4A89-8BF8-A990B03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9270-A5B9-4548-B931-7EE3326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CFC-07C3-499F-888A-427878FA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419-2083-45C6-B3AE-E9D7B230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0108-7E2A-4D3E-8693-5488D95C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7C5-05EE-45EE-B4CA-99A3D782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498-0EEF-474B-8DD9-19F59735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4B1-4FCA-40B4-A5A0-E3C6FF3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BFA-10B5-457A-95A3-1C18E477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982-6680-438F-886D-CCC28C0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916-0E94-4930-99AB-454546C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AAB-9ED6-4BFA-BC3E-C670E38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c2"/>
            </a:gs>
            <a:gs pos="50000">
              <a:srgbClr val="ffffff"/>
            </a:gs>
            <a:gs pos="100000">
              <a:srgbClr val="a4a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68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a5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F1B-7C2F-457B-8C8D-1A23CC1173B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c2"/>
            </a:gs>
            <a:gs pos="50000">
              <a:srgbClr val="ffffff"/>
            </a:gs>
            <a:gs pos="100000">
              <a:srgbClr val="a4a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68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a5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9FF-1DF0-4FAC-A92B-1FF4122BD7D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audio" Target="../media/beamup2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oeo.wav"/><Relationship Id="rId3" Type="http://schemas.openxmlformats.org/officeDocument/2006/relationships/audio" Target="../media/oe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eathstardo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camera.wav"/><Relationship Id="rId4" Type="http://schemas.openxmlformats.org/officeDocument/2006/relationships/audio" Target="../media/deathstardoor.wav"/><Relationship Id="rId5" Type="http://schemas.openxmlformats.org/officeDocument/2006/relationships/audio" Target="../media/deathstardoo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Work, Energy </a:t>
            </a:r>
            <a:br>
              <a:rPr sz="7200"/>
            </a:b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and</a:t>
            </a:r>
            <a:br>
              <a:rPr sz="7200"/>
            </a:b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7200" spc="-1" strike="noStrike">
              <a:solidFill>
                <a:srgbClr val="000040"/>
              </a:solidFill>
              <a:latin typeface="Times New Roman"/>
            </a:endParaRPr>
          </a:p>
        </p:txBody>
      </p:sp>
      <p:pic>
        <p:nvPicPr>
          <p:cNvPr id="125" name="Picture 4" descr="anihomer"/>
          <p:cNvPicPr/>
          <p:nvPr/>
        </p:nvPicPr>
        <p:blipFill>
          <a:blip r:embed="rId1"/>
          <a:stretch/>
        </p:blipFill>
        <p:spPr>
          <a:xfrm>
            <a:off x="7543800" y="5635800"/>
            <a:ext cx="136044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40"/>
                </a:solidFill>
                <a:latin typeface="Times New Roman"/>
              </a:rPr>
              <a:t>Energy has many forms</a:t>
            </a:r>
            <a:endParaRPr b="0" lang="en-US" sz="6000" spc="-1" strike="noStrike">
              <a:solidFill>
                <a:srgbClr val="000040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1600200"/>
          <a:ext cx="915660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5660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4572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Machines change energy  from one form to another.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mu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2" name="AutoShape 21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6094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6019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60958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33520" y="4572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8672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586728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Heat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094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6019920" y="29718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0958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33520" y="45720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5943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3808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808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609588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80880" y="4495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Unstable Nuclei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609588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45720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943600" y="1371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 &amp; K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08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95880" y="2819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Gravitational P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380880" y="4495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09588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60948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594360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Magnetism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10666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40"/>
                </a:solidFill>
                <a:latin typeface="Times New Roman"/>
              </a:rPr>
              <a:t>Potential and Kinetic Energy</a:t>
            </a:r>
            <a:endParaRPr b="0" lang="en-US" sz="48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n all these types of energies, energy can exist as either Potential Energy (_______), Kinetic Energy (_________), or both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Potential Energy (P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Can be thought of as “stored” energy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t is the energy possessed by an object due to it’s position or condition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Gravitational Potential Energy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potential energy “stored energy” in an object due to it’s height off the ground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Work was done against the force of gravity (weight), through a distance (height) to lift an object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work done (W) is equivalent to the Gravitational Potential Energy (GPE) acquired by the object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Gravitational Potential Energy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W = 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W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.E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E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PE</a:t>
            </a:r>
            <a:r>
              <a:rPr b="0" lang="en-US" sz="6000" spc="-1" strike="noStrike" baseline="-25000">
                <a:solidFill>
                  <a:srgbClr val="ff0066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= weight 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PE</a:t>
            </a:r>
            <a:r>
              <a:rPr b="0" lang="en-US" sz="6000" spc="-1" strike="noStrike" baseline="-25000">
                <a:solidFill>
                  <a:srgbClr val="ff0066"/>
                </a:solidFill>
                <a:latin typeface="Times New Roman"/>
              </a:rPr>
              <a:t>G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= m </a:t>
            </a:r>
            <a:r>
              <a:rPr b="1" lang="en-US" sz="6000" spc="-1" strike="noStrike" baseline="30000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g </a:t>
            </a:r>
            <a:r>
              <a:rPr b="1" lang="en-US" sz="60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h</a:t>
            </a:r>
            <a:endParaRPr b="0" lang="en-US" sz="6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4114800"/>
            <a:ext cx="192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E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du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o gravity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086600" y="160020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ight is the force due to gravity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=m</a:t>
            </a:r>
            <a:r>
              <a:rPr b="1" lang="en-US" sz="28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 flipH="1">
            <a:off x="5105160" y="3048120"/>
            <a:ext cx="2057400" cy="53316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7162920" y="51814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istance is just the height off the gr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H="1" flipV="1">
            <a:off x="6781680" y="4114440"/>
            <a:ext cx="457200" cy="11430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1371600" y="3962520"/>
            <a:ext cx="60948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4800600" y="4114800"/>
            <a:ext cx="76320" cy="4572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4800600" y="4038480"/>
            <a:ext cx="762120" cy="60984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Kinetic Energy (K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s the energy due to motion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A moving object has the ability to do work on another object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t is a scalar quantity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Work (a scalar)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In physics, work is done when a force is applied through a distance. </a:t>
            </a:r>
            <a:r>
              <a:rPr b="0" lang="en-US" sz="3600" spc="-1" strike="noStrike" u="sng">
                <a:solidFill>
                  <a:srgbClr val="666699"/>
                </a:solidFill>
                <a:uFillTx/>
                <a:latin typeface="Times New Roman"/>
              </a:rPr>
              <a:t>The force must be in the direction of movement!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 = F </a:t>
            </a:r>
            <a:r>
              <a:rPr b="1" lang="en-US" sz="36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d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=magnitude of force </a:t>
            </a:r>
            <a:r>
              <a:rPr b="1" lang="en-US" sz="3600" spc="-1" strike="noStrike" baseline="30000">
                <a:solidFill>
                  <a:srgbClr val="666699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Distance moved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Units of measure: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•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m or </a:t>
            </a:r>
            <a:r>
              <a:rPr b="1" lang="en-US" sz="3600" spc="-1" strike="noStrike">
                <a:solidFill>
                  <a:srgbClr val="666699"/>
                </a:solidFill>
                <a:latin typeface="Times New Roman"/>
              </a:rPr>
              <a:t>Joule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in the metric system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Ft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•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Lb or calorie in the English system. 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1828800" y="5181480"/>
            <a:ext cx="41911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8" name="Line 3"/>
          <p:cNvSpPr/>
          <p:nvPr/>
        </p:nvSpPr>
        <p:spPr>
          <a:xfrm flipV="1">
            <a:off x="5943600" y="2666880"/>
            <a:ext cx="0" cy="236232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048120" y="5486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3 J of work against friction to slide.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01992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4J of work against gravity to lif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57200" y="228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0"/>
                </a:solidFill>
                <a:latin typeface="Times New Roman"/>
              </a:rPr>
              <a:t>Don’t use trig or vectors to add energy. Adding energy is path independent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62" name="Picture 8" descr="mass"/>
          <p:cNvPicPr/>
          <p:nvPr/>
        </p:nvPicPr>
        <p:blipFill>
          <a:blip r:embed="rId1"/>
          <a:stretch/>
        </p:blipFill>
        <p:spPr>
          <a:xfrm>
            <a:off x="1523880" y="4267080"/>
            <a:ext cx="590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Kinetic Energy (K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W= F 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=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 = 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/t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 = 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/t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666699"/>
                </a:solidFill>
                <a:latin typeface="Times New Roman"/>
              </a:rPr>
              <a:t>/2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KE= ½ m</a:t>
            </a:r>
            <a:r>
              <a:rPr b="1" lang="en-US" sz="54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5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12952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Using W=F</a:t>
            </a:r>
            <a:r>
              <a:rPr b="1" lang="en-US" sz="32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 and Newton’s 2</a:t>
            </a:r>
            <a:r>
              <a:rPr b="0" lang="en-US" sz="3200" spc="-1" strike="noStrike" baseline="30000">
                <a:solidFill>
                  <a:srgbClr val="66669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Law, F=m</a:t>
            </a:r>
            <a:r>
              <a:rPr b="1" lang="en-US" sz="32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28600" y="19810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e work done by a force to accelerate a mass is equivalent to the KE gain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2819520" y="2819520"/>
            <a:ext cx="609480" cy="2286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724280" y="2514600"/>
            <a:ext cx="304920" cy="4572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4647960" y="2438280"/>
            <a:ext cx="75960" cy="53352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3"/>
              <p:cNvSpPr txBox="1"/>
              <p:nvPr/>
            </p:nvSpPr>
            <p:spPr>
              <a:xfrm>
                <a:off x="4502160" y="323208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Line 14"/>
          <p:cNvSpPr/>
          <p:nvPr/>
        </p:nvSpPr>
        <p:spPr>
          <a:xfrm>
            <a:off x="5105520" y="3276720"/>
            <a:ext cx="0" cy="30456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5562720" y="3276720"/>
            <a:ext cx="15228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32448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=avg.velocity multiplied by time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 flipH="1" flipV="1">
            <a:off x="5638320" y="3200400"/>
            <a:ext cx="76212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6172200" y="21337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=v/t assuming 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H="1">
            <a:off x="5181480" y="2438280"/>
            <a:ext cx="1067040" cy="53352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6400800" y="4724280"/>
            <a:ext cx="2743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vg. velocity=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uming 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 flipH="1" flipV="1">
            <a:off x="5790960" y="4800600"/>
            <a:ext cx="68580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5638680" y="4038480"/>
            <a:ext cx="0" cy="2286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E </a:t>
            </a:r>
            <a:r>
              <a:rPr b="0" lang="en-US" sz="4400" spc="-1" strike="noStrike" baseline="-25000">
                <a:solidFill>
                  <a:srgbClr val="000040"/>
                </a:solidFill>
                <a:latin typeface="Times New Roman"/>
              </a:rPr>
              <a:t>total</a:t>
            </a: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 = KE + PE + Q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pic>
        <p:nvPicPr>
          <p:cNvPr id="282" name="Picture 4" descr="Work pic"/>
          <p:cNvPicPr/>
          <p:nvPr/>
        </p:nvPicPr>
        <p:blipFill>
          <a:blip r:embed="rId1"/>
          <a:stretch/>
        </p:blipFill>
        <p:spPr>
          <a:xfrm>
            <a:off x="1152360" y="2128680"/>
            <a:ext cx="6629400" cy="1916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22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Is  work being done 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Yes on the right .  But not by the 15N force used to hold it up in the left picture. 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380880" y="914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 = F•d only works if F and d are _________________________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e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e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If you pick up a 3N rock a distance of 2 meters, how much work have you done?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If you push a wall with a force of 100N how much work have you done?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Power is the rate at which work is done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P = W/t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 the faster you do work, the more power is needed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I unit of measure is the Watt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31" name="Picture 4" descr="Watt"/>
          <p:cNvPicPr/>
          <p:nvPr/>
        </p:nvPicPr>
        <p:blipFill>
          <a:blip r:embed="rId1"/>
          <a:stretch/>
        </p:blipFill>
        <p:spPr>
          <a:xfrm>
            <a:off x="3048120" y="4495680"/>
            <a:ext cx="2441520" cy="214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wattseng"/>
          <p:cNvPicPr/>
          <p:nvPr/>
        </p:nvPicPr>
        <p:blipFill>
          <a:blip r:embed="rId2"/>
          <a:stretch/>
        </p:blipFill>
        <p:spPr>
          <a:xfrm>
            <a:off x="5667480" y="3181320"/>
            <a:ext cx="3476520" cy="3676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304920" y="3962520"/>
            <a:ext cx="20574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homas Newcomen invented the first steam engine in 1712 to pump water out of coal and tin mines.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t underwent a number of improvements but it was James Watt in the mid eighteenth century who spectacularly improved its efficiency.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P = W/t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0"/>
                </a:solidFill>
                <a:latin typeface="Times New Roman"/>
              </a:rPr>
              <a:t>So, if you pick up that same 3N rock a distance of 2 meters, and do it in 6 seconds how much power is needed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alculate the 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A set of pulleys is used to lift a piano weighing 1000N.  It is lifted 6 meters in 30 seconds.  How much work was put into it and how much power was used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40"/>
                </a:solidFill>
                <a:uFillTx/>
                <a:latin typeface="Times New Roman"/>
              </a:rPr>
              <a:t>Energy: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131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Energy is the ability to do work.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131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The SI unit of measurement for energy is also the Joule (J).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Can you list sources of energy that we can use to make machines do work for us?</a:t>
            </a:r>
            <a:r>
              <a:rPr b="0" lang="en-US" sz="4000" spc="-1" strike="noStrike">
                <a:solidFill>
                  <a:srgbClr val="00004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nergy transformation chart"/>
          <p:cNvPicPr/>
          <p:nvPr/>
        </p:nvPicPr>
        <p:blipFill>
          <a:blip r:embed="rId1"/>
          <a:stretch/>
        </p:blipFill>
        <p:spPr>
          <a:xfrm>
            <a:off x="-228600" y="0"/>
            <a:ext cx="9548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18:39:26Z</dcterms:created>
  <dc:creator>James Keelty</dc:creator>
  <dc:description/>
  <dc:language>en-US</dc:language>
  <cp:lastModifiedBy>"%username%"</cp:lastModifiedBy>
  <cp:lastPrinted>2015-01-06T15:23:19Z</cp:lastPrinted>
  <dcterms:modified xsi:type="dcterms:W3CDTF">2016-01-04T17:20:13Z</dcterms:modified>
  <cp:revision>37</cp:revision>
  <dc:subject/>
  <dc:title>Homework Due Wednesday 1/3/2001</dc:title>
</cp:coreProperties>
</file>